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10.png" ContentType="image/png"/>
  <Override PartName="/ppt/media/image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B632A0-6960-41EF-9465-8004668E760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26F3C1B-0D8C-425D-9A19-B45A36B4123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73F28AB-F8CB-4819-B96F-6E10F72F1F8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CEC7-A562-4A33-A93C-CFD59611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BB1-F815-4F72-A666-5D15389C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76394B-E00A-4622-86ED-0479B4F54BC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99F91A-44AF-48BB-80FF-901CF643368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781AAC-FB9D-4456-AF05-05277F890DD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9536D0-AEBB-43D6-8D40-205E4D8C216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2043A1-51A2-44BB-A412-18DB7DCB5E0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29129A-C700-4F3A-A49F-BA9E1655569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929EED-0E1B-4DC6-B3CA-D10E3418394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608166-CDD6-409A-A583-2DC157DE5D3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43EC66-965D-45FC-AD89-BA06C7D270E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1BFAFE-CB2F-4954-848F-20FECAA8E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4AC-97F2-45D9-8DBF-19EF048C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B548FE-5B21-44D7-A98F-CF79866C4D6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06F9D5-3F0E-4AC1-83C8-3BBBC1568E9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44C643-7289-4DCA-907C-75529C39C2F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99698E-46B7-4191-8DCA-3158CDE6737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32F4FB-1EAA-403E-B906-E545EA5CAB1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0089D3-49EC-4EE0-9C0F-C55865C4788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6D9B2B-6092-4204-A800-0B47E5B196E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6AAFE6-2C9F-4C40-BA36-3AB4066877F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C22128-E806-4DFB-95D6-409042EEA92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6E7406-CE08-4981-9AD8-281F4E235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F0A-25F9-4E3C-9E25-48454083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061136-2921-48CF-97BA-5C2FD95E61E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BDA8E-5CB2-4FA5-9AAF-9B7631BF391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CA1E2-6554-4487-B281-CBC52ADC344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1F4C7-C475-40DF-9526-9D757CD156F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8D9DA-4D64-4F4D-A1D7-F82E812DCFE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BF481-9FF7-4B70-A840-7CCB9365534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9D2E7-39F6-4D7B-915B-D7ECF491937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02CCE-BD59-42F0-A87F-2406CCF8056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13770-A5F7-43DE-A90C-48D3222FDF6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376B9-529F-484B-A7E9-729FD9404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6C19E-5BB6-47AB-A08A-431EE50FED5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6C251-9DC9-4441-8050-60041DC0DB1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3E92E-8053-4BBD-8D48-0268F84E86B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EBCBAC-092C-4318-B3F6-A0EEBE017AA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2DDDA5-007A-4BF6-8C99-7A07BA756FC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C8C65A-2EF6-415E-8902-BD00425F23B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7997F3-952B-43B3-8EF9-B213A3319A9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BDD755-F24C-45E7-8A5E-349467E58A4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4E5404-FCA8-49CE-9CAA-FC2EBD95DF2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B819C4-234A-4150-B6EC-4D2878B3F0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BE0659-94CA-4FAE-B627-CD4BD7B3E63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754938-597D-4AE8-9702-D984F2BC532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F923A2-E280-4382-99FA-E52DF604B30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CC10CD-0A4F-4624-A6FF-8BC92F2B889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FEF0F2-62DF-4356-A826-9EA917FD886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58F2C-CAF3-46B8-9C7A-9A33CEF5234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DCBD9F-80C8-4AC3-9206-B922464026B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F15491-8BCC-41FA-B02C-F2A4A57497C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64785-84D7-49EF-A251-CE507C83531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C11FD-C188-4E3B-BF49-99BCE2F572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DD1E03-106E-4D81-8E3C-A708F8C8559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4BFD36-4BF2-40AD-94E3-8FF5FE3FF5C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B4636-6955-4E76-8CF8-D39C889BA3A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F57A70-44C8-4EEC-AFAC-6AE708268EA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04D9CD-EA12-47C6-A148-5228E002288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3266D3-9400-430F-987F-BE14D8E227E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54BE2F-53D9-4508-8B70-2F44B4341A6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5D402-8E09-4847-A1C6-CAE93079697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21281-FDD5-4C04-802A-D9D7DE94C30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7037A-F94A-40A2-A06A-55834FBC3F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D75C1-772A-4C7A-94E9-BB56B8E588F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DAFF9-8FF2-4ACB-9CCE-453E212E72B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EDC93-EE7F-4B6F-80B2-DF0D308EAD2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A9C3F-DB21-40D3-B3FC-DE4BFF8EE6D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05761-7EE6-43C0-8770-A568145D8DE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D7576-ECFA-4F40-A057-99E3B6CFE54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C0A1F-9CDB-4C07-AC7C-4DE81DCD9FE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10557-8B7D-4554-B729-CC29041D60D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F0ABD-7F3C-4881-9EA4-BDF90C6CA83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1EB179-A4DA-4DE1-9974-04FA59CBFD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3A4A8C-B34D-4E98-9C07-3F9D99642EC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4B7DE8-5F0C-42D2-B632-9F8AD12E985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F0C80B-0246-4F91-A9D2-B8D71CCF125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B1BB25-0261-4ECA-AB0B-1556A8CAC51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AE1F24-A892-4EC2-B693-EC8B29B0EC1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B05EF9-AC39-43F9-BBE5-8B224EE41D4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1748AE-65FF-46EA-89EB-9D752225885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B2E5B8-8B9F-4254-A4C1-39CAD5ECBB2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5B4E82-4372-470E-91AC-7A8EE3337E6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ECE12F-83F7-42AB-A048-2D1589BCE5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6C9CF4-BC45-4CEF-9EE1-E359BF8C049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80057-0390-4895-AC8A-8F5865C917E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17C425-3267-48EA-BD36-7887549B5E6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A6EEF6-DD10-456E-8DFC-14950B56004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F395DE-1EAB-4E22-A1A6-8DE067479A9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E87920-0673-4B6F-9E5C-7BB0661D60B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931CBB-1739-420D-9E80-74D6A3A7CC3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C338D9-313E-451C-A3C4-50B1668C160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B8B21F-1594-4809-AD0B-A543644AD1E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7FBCB6-BBA9-4DF8-BCF8-D784485471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41F5BF-3AA9-4E7D-873E-B6A4CA631A3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4AF3EE-DFBD-425B-86A8-98EDAC2FE00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6F3CAB-5F74-4141-823C-6F8574C8C1E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FC8-4EA3-4555-9C51-864021E3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0D8D8-3A7A-4C02-9B17-540BD1B92B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A6E13-83C1-4888-AC76-5F0A0A22C1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004EE-09F0-4169-BB5E-E9D2A2C6CE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3E382-DF28-4443-BC0B-559D0A1F94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87FE3-6105-4CC6-9DFF-E141ED8662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29AB-217D-4264-BD54-D199069C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66A80-797B-45E3-9565-83508BD138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37CB2-897A-460C-ACA9-CAED9131EB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20BB3-6BD5-49B6-B408-FFF75FE7E2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7B4A8-8AF2-4022-865D-ADF8821BCA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78678-1D89-43C3-8E77-548949419B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E3944-8E74-413A-9E68-FF050604B2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88D89-0D2E-4CE9-9BF2-0769DA9053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E8CA0-C5E6-4B3B-AE37-CE20BEEAB5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2F87D-68D1-4F70-AC69-BF062B57B2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E283D-7D02-4A82-B74C-5A352FF95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081A-847A-443D-8C63-7E25DD64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25B1F-4ED7-4F74-90E8-3882CD93F2E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B9C10-1246-48C1-A4AC-FFB304A80ED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25C97-80A8-457A-A094-EC63F920300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09FAC-E69F-402A-A92C-270AE13D56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5151C-EFCF-45BA-BD99-8E2A0E0A91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34ACD-BF16-42DA-8D09-6BE905F245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4FC74-471B-4EAE-A27D-1E4E5693CF7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21117-02D1-45C0-9E88-C79F154224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0FF25-25C8-48EE-BEFD-5F58FE35BF7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615D-9FDD-42B0-A564-94294E011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A8A-E86E-4B9F-9ED3-D70E7B68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2EB9-CF09-41C8-B3E0-A09418F8151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ECB8-E2F8-45BF-86AF-40A9D1503C1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9426-DC09-4197-8829-A6AAFE171F6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D658-F6C6-4DA9-B52D-7B0B662774B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93B1-9F8E-4F00-A9F5-77D68B98524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950F-ADA2-496A-B401-FF80E15DF5A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2052-9330-4730-908C-06FC9A2AD75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5D93-5053-4E0E-A04C-039E8280716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CE8B-7F5D-4866-B5B3-F9B9361A34F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DF2E-4D74-40AE-AB6C-C1635F6EF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648B-2DC7-4B33-B35F-13CBB792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03DC-9FD9-46E8-87CB-D9F896D2AF3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B56355-0710-48FA-B51E-0943A06DFAD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F91B53-7C3A-4ECE-BA1D-DF41EF0720A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77F483-7359-4FAF-9CB9-A6ACDF66B29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F26C5C-A3B7-4FC6-9066-F12C793624E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DAFF5A-E556-4822-9E53-B28C6865347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2942DD-BF8B-4E8C-A300-2D410AF3D22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2AD287-61D4-42B3-B5F8-496041BE12C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C4599B-D8A0-472D-8C71-39D9F69276F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828241-D990-46F0-92A8-B8E114270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26CB-6AB7-422D-A49B-2F24DFCD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A2C247-D5F0-4A94-A646-8E16FEEB679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56C819-3B6F-4A08-88E7-546D8C9D3D2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76A35A-6B96-4DFD-B308-4A47870C11F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BA8DF-9CCA-45D9-A165-7B57513D3F7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93C80-51C2-4E55-84F3-500E2031D79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9D389-8D12-457A-B151-138AD441FF9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30204-73A7-4BC6-A376-C0AC88268CD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50069-3DE3-4A00-AA48-376EA8EBA25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4A546-B0D5-4208-A975-74E19052BCA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4D7FF-EF3F-407F-869C-1F0A28751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ED03-D63E-44EB-AA5C-197AA836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82F871-4B69-4B14-9F9D-B9F20B2BC9D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A281E-5445-4228-94FA-3A61ED93602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7853C-10C9-4923-AFC5-4C7BC65A037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87495-2EDD-4F17-8968-C526CB07462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ACF92E-2DF7-4960-B141-107A9B03DBF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BB4E7-4680-4A10-AF68-3F864706A67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3CCC0-381A-4DCB-A9EC-F237B509D56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8791F-07E4-48FD-9A47-34AD3C3E6C5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69DFE-41E0-4A8F-BDEB-0F2445607E8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35D32-7E15-4A9E-8FAF-C2CADDD15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81A-BCB8-4629-BDFC-B3EA042E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71B73-A7CD-4928-878D-B93E4F3D34D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7D3A3-CBFE-4A1F-B7F7-3666DCCF5AB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C6939-175F-4FF0-924B-911009AA82C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BE8F0-B8AE-4217-B867-3372DBAB815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7D977-8D0F-4B7A-AC53-34963BF0020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307A6-DDEF-4792-937E-AD228E29059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F9AC5-BD7D-4463-8AC1-D2BAD8F1574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9EE230-9F28-47AA-B2CF-17C70A25A09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16AC57-5787-4EC0-83DE-88B6D155A84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AB3CDD-6E25-480A-AC5B-1502176BF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D27A953-B3F2-4E75-8C57-F9438095EDB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4543C18-FAF7-49D4-82A5-4CD168660C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E6DF04-0A7C-43FB-B884-221C79639FF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4ABA33D-84B6-4896-BC9E-CB88F530B07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DB58FEA-15FA-49FB-93F9-5F4A122B531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5E5B886-F717-4E73-8F32-29823CF4DD1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6218EDE-28A6-4279-9E17-5F6E3CAF2A5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37FB2AB-1F8F-47AE-BF91-DA13398A228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711E48-DF85-477D-A0D1-CC86999A692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045A5C7-7DD9-4075-8409-033C054FC63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0CB281D-1E0F-460C-A0F6-EC130ABC135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6EB7292-0A90-460D-899B-27A4D86124D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47BB28D-F8FD-45DF-B84B-A2FED718F57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C3C35BA-973D-460E-BA3D-AA7BC0C3A4A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3ED0E26-C126-405E-AA6F-924E39832A2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243C046-445D-409F-A28F-569FC92DFE5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2208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sagatavo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0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šu pieteikumu sagatavošana un iesniegšana Espresso sistē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4300560"/>
            <a:ext cx="5829120" cy="666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5. gada 27. augustā, plkst. 11:00 un 15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DD4601A-225E-429E-9100-0F052669E97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b050"/>
                </a:solidFill>
                <a:latin typeface="Verdana"/>
                <a:ea typeface="Verdana"/>
              </a:rPr>
              <a:t>Par studiju vizītēm – jaunu projektu veidu Nordplus Jauniešu apakšprogrammā -  atsevišķs seminārs 28.08.25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Box 10"/>
          <p:cNvSpPr/>
          <p:nvPr/>
        </p:nvSpPr>
        <p:spPr>
          <a:xfrm>
            <a:off x="250920" y="3706920"/>
            <a:ext cx="34653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Calibri"/>
              </a:rPr>
              <a:t>https://www.viaa.gov.lv/lv/jaunums/notiks-tiessaistes-seminari-par-nordplus-2025-gada-studiju-vizisu-konkurs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3022560" y="2103480"/>
            <a:ext cx="581652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"/>
          <p:cNvPicPr/>
          <p:nvPr/>
        </p:nvPicPr>
        <p:blipFill>
          <a:blip r:embed="rId1"/>
          <a:stretch/>
        </p:blipFill>
        <p:spPr>
          <a:xfrm>
            <a:off x="3179880" y="1238400"/>
            <a:ext cx="5816520" cy="523872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rdplus datubāzē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pliecinājuma vēstules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, kuras jāparaksta visu projektā iesaisīt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E4F44B6-AA49-4A6F-AC5D-6E01DCD289E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2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3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4" name="Title 1"/>
          <p:cNvSpPr/>
          <p:nvPr/>
        </p:nvSpPr>
        <p:spPr>
          <a:xfrm>
            <a:off x="259092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b7d91"/>
                </a:solidFill>
                <a:latin typeface="Verdana"/>
                <a:ea typeface="Verdana"/>
              </a:rPr>
              <a:t>Projektā iesaistītās organizācijas – koordinators un partne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4" descr=""/>
          <p:cNvPicPr/>
          <p:nvPr/>
        </p:nvPicPr>
        <p:blipFill>
          <a:blip r:embed="rId1"/>
          <a:stretch/>
        </p:blipFill>
        <p:spPr>
          <a:xfrm>
            <a:off x="4673520" y="3238560"/>
            <a:ext cx="3152880" cy="320364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"/>
          <p:cNvPicPr/>
          <p:nvPr/>
        </p:nvPicPr>
        <p:blipFill>
          <a:blip r:embed="rId2"/>
          <a:stretch/>
        </p:blipFill>
        <p:spPr>
          <a:xfrm>
            <a:off x="3878280" y="-214200"/>
            <a:ext cx="5478480" cy="317160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, ja nav, tad jāpievieno.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9" name="Left Arrow 13"/>
          <p:cNvSpPr/>
          <p:nvPr/>
        </p:nvSpPr>
        <p:spPr>
          <a:xfrm rot="16200000">
            <a:off x="5375160" y="2305080"/>
            <a:ext cx="1666800" cy="355320"/>
          </a:xfrm>
          <a:prstGeom prst="leftArrow">
            <a:avLst>
              <a:gd name="adj1" fmla="val 50000"/>
              <a:gd name="adj2" fmla="val 54533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Sagatavošanas vizītes apraks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itle 1"/>
          <p:cNvSpPr/>
          <p:nvPr/>
        </p:nvSpPr>
        <p:spPr>
          <a:xfrm>
            <a:off x="1128600" y="1914480"/>
            <a:ext cx="70423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Rokasgrāmata, 43. lpp (pdf),  sadaļa  «The Application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2" descr=""/>
          <p:cNvPicPr/>
          <p:nvPr/>
        </p:nvPicPr>
        <p:blipFill>
          <a:blip r:embed="rId1"/>
          <a:stretch/>
        </p:blipFill>
        <p:spPr>
          <a:xfrm>
            <a:off x="1128600" y="3162240"/>
            <a:ext cx="73756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"/>
          <p:cNvPicPr/>
          <p:nvPr/>
        </p:nvPicPr>
        <p:blipFill>
          <a:blip r:embed="rId1"/>
          <a:stretch/>
        </p:blipFill>
        <p:spPr>
          <a:xfrm>
            <a:off x="2389320" y="919080"/>
            <a:ext cx="6254640" cy="5019840"/>
          </a:xfrm>
          <a:prstGeom prst="rect">
            <a:avLst/>
          </a:prstGeom>
          <a:ln w="0">
            <a:noFill/>
          </a:ln>
        </p:spPr>
      </p:pic>
      <p:sp>
        <p:nvSpPr>
          <p:cNvPr id="79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F2532CE-96FF-44DF-9494-32C40AE9E91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Īsi jāapraksta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paredzamā  projekta iece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Straight Arrow Connector 12"/>
          <p:cNvCxnSpPr/>
          <p:nvPr/>
        </p:nvCxnSpPr>
        <p:spPr>
          <a:xfrm>
            <a:off x="1958760" y="220932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7" descr=""/>
          <p:cNvPicPr/>
          <p:nvPr/>
        </p:nvPicPr>
        <p:blipFill>
          <a:blip r:embed="rId1"/>
          <a:srcRect l="0" t="6263" r="0" b="0"/>
          <a:stretch/>
        </p:blipFill>
        <p:spPr>
          <a:xfrm>
            <a:off x="3405240" y="933480"/>
            <a:ext cx="4903560" cy="4375080"/>
          </a:xfrm>
          <a:prstGeom prst="rect">
            <a:avLst/>
          </a:prstGeom>
          <a:ln w="0">
            <a:noFill/>
          </a:ln>
        </p:spPr>
      </p:pic>
      <p:sp>
        <p:nvSpPr>
          <p:cNvPr id="798" name="Title 1"/>
          <p:cNvSpPr/>
          <p:nvPr/>
        </p:nvSpPr>
        <p:spPr>
          <a:xfrm>
            <a:off x="0" y="1943280"/>
            <a:ext cx="2849400" cy="32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apraksta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i jābalstās uz projekta pieteikuma plānoša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mērķi, uzdevumi, rezultāti, norise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"/>
          <p:cNvPicPr/>
          <p:nvPr/>
        </p:nvPicPr>
        <p:blipFill>
          <a:blip r:embed="rId1"/>
          <a:srcRect l="0" t="8694" r="0" b="0"/>
          <a:stretch/>
        </p:blipFill>
        <p:spPr>
          <a:xfrm>
            <a:off x="3948120" y="549360"/>
            <a:ext cx="4456080" cy="3079800"/>
          </a:xfrm>
          <a:prstGeom prst="rect">
            <a:avLst/>
          </a:prstGeom>
          <a:ln w="0">
            <a:noFill/>
          </a:ln>
        </p:spPr>
      </p:pic>
      <p:sp>
        <p:nvSpPr>
          <p:cNvPr id="80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44CC399-FFAD-4F59-BAE4-B3406ABACDB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9"/>
          <p:cNvCxnSpPr/>
          <p:nvPr/>
        </p:nvCxnSpPr>
        <p:spPr>
          <a:xfrm flipH="1">
            <a:off x="4258800" y="2095200"/>
            <a:ext cx="16560" cy="22658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2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8" descr=""/>
          <p:cNvPicPr/>
          <p:nvPr/>
        </p:nvPicPr>
        <p:blipFill>
          <a:blip r:embed="rId2"/>
          <a:stretch/>
        </p:blipFill>
        <p:spPr>
          <a:xfrm>
            <a:off x="3208320" y="4361040"/>
            <a:ext cx="3828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"/>
          <p:cNvPicPr/>
          <p:nvPr/>
        </p:nvPicPr>
        <p:blipFill>
          <a:blip r:embed="rId1"/>
          <a:srcRect l="0" t="0" r="0" b="76419"/>
          <a:stretch/>
        </p:blipFill>
        <p:spPr>
          <a:xfrm>
            <a:off x="4597560" y="4807080"/>
            <a:ext cx="3828960" cy="720720"/>
          </a:xfrm>
          <a:prstGeom prst="rect">
            <a:avLst/>
          </a:prstGeom>
          <a:ln w="0">
            <a:noFill/>
          </a:ln>
        </p:spPr>
      </p:pic>
      <p:sp>
        <p:nvSpPr>
          <p:cNvPr id="805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itle 1"/>
          <p:cNvSpPr/>
          <p:nvPr/>
        </p:nvSpPr>
        <p:spPr>
          <a:xfrm>
            <a:off x="100080" y="4184640"/>
            <a:ext cx="344808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u apliecinājuma vēstules (tai skaitā arī no savas organizācijas)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7" name="Straight Arrow Connector 6"/>
          <p:cNvCxnSpPr/>
          <p:nvPr/>
        </p:nvCxnSpPr>
        <p:spPr>
          <a:xfrm>
            <a:off x="2827440" y="4327200"/>
            <a:ext cx="1745280" cy="626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8" name="Picture 2" descr=""/>
          <p:cNvPicPr/>
          <p:nvPr/>
        </p:nvPicPr>
        <p:blipFill>
          <a:blip r:embed="rId2"/>
          <a:srcRect l="0" t="15722" r="0" b="0"/>
          <a:stretch/>
        </p:blipFill>
        <p:spPr>
          <a:xfrm>
            <a:off x="2749680" y="2050920"/>
            <a:ext cx="56768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Straight Arrow Connector 8"/>
          <p:cNvCxnSpPr/>
          <p:nvPr/>
        </p:nvCxnSpPr>
        <p:spPr>
          <a:xfrm>
            <a:off x="1714320" y="2827440"/>
            <a:ext cx="1410120" cy="10166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11" name="Straight Arrow Connector 11"/>
          <p:cNvCxnSpPr/>
          <p:nvPr/>
        </p:nvCxnSpPr>
        <p:spPr>
          <a:xfrm>
            <a:off x="2095200" y="502416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12" name="Picture 2" descr=""/>
          <p:cNvPicPr/>
          <p:nvPr/>
        </p:nvPicPr>
        <p:blipFill>
          <a:blip r:embed="rId1"/>
          <a:srcRect l="0" t="9362" r="0" b="0"/>
          <a:stretch/>
        </p:blipFill>
        <p:spPr>
          <a:xfrm>
            <a:off x="3124080" y="2827440"/>
            <a:ext cx="563904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317E9C8-925D-4918-8160-1C2E651D204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itle 1"/>
          <p:cNvSpPr/>
          <p:nvPr/>
        </p:nvSpPr>
        <p:spPr>
          <a:xfrm>
            <a:off x="0" y="1943280"/>
            <a:ext cx="23320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tiks pārskaitīts piešķirtais finansējums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Pie bankas rekvizītiem – «Your reference» ir organizācijas iekšējais identifikators (ja tāds ir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  <p:cxnSp>
        <p:nvCxnSpPr>
          <p:cNvPr id="816" name="Straight Arrow Connector 2"/>
          <p:cNvCxnSpPr/>
          <p:nvPr/>
        </p:nvCxnSpPr>
        <p:spPr>
          <a:xfrm>
            <a:off x="2158560" y="4808160"/>
            <a:ext cx="5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Nordic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itle 1"/>
          <p:cNvSpPr/>
          <p:nvPr/>
        </p:nvSpPr>
        <p:spPr>
          <a:xfrm>
            <a:off x="106200" y="2120760"/>
            <a:ext cx="247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Picture 2" descr=""/>
          <p:cNvPicPr/>
          <p:nvPr/>
        </p:nvPicPr>
        <p:blipFill>
          <a:blip r:embed="rId1"/>
          <a:stretch/>
        </p:blipFill>
        <p:spPr>
          <a:xfrm>
            <a:off x="2583000" y="1582560"/>
            <a:ext cx="62276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0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tālr.  29554403 (GSM, WhatsApp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ff0000"/>
                </a:solidFill>
                <a:latin typeface="Calibri"/>
                <a:ea typeface="Verdana"/>
              </a:rPr>
              <a:t>VIAA sagatavotajiem materiāliem latviešu valodā ir </a:t>
            </a:r>
            <a:r>
              <a:rPr b="1" lang="lv-LV" sz="1900" spc="-1" strike="noStrike" u="sng">
                <a:solidFill>
                  <a:srgbClr val="ff0000"/>
                </a:solidFill>
                <a:uFillTx/>
                <a:latin typeface="Calibri"/>
                <a:ea typeface="Verdana"/>
              </a:rPr>
              <a:t>informatīvs un paskaidrojošs raksturs</a:t>
            </a:r>
            <a:r>
              <a:rPr b="1" lang="lv-LV" sz="1900" spc="-1" strike="noStrike">
                <a:solidFill>
                  <a:srgbClr val="ff0000"/>
                </a:solidFill>
                <a:latin typeface="Calibri"/>
                <a:ea typeface="Verdan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cējiem ir saistoši dokumenti, kas publicēti angļu valodā  </a:t>
            </a: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www.nordplusonline.org un norādījumi projekta pieteikuma veidlap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Content Placeholder 1" descr=""/>
          <p:cNvPicPr/>
          <p:nvPr/>
        </p:nvPicPr>
        <p:blipFill>
          <a:blip r:embed="rId1"/>
          <a:stretch/>
        </p:blipFill>
        <p:spPr>
          <a:xfrm>
            <a:off x="2901960" y="1695600"/>
            <a:ext cx="5907240" cy="40719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" descr=""/>
          <p:cNvPicPr/>
          <p:nvPr/>
        </p:nvPicPr>
        <p:blipFill>
          <a:blip r:embed="rId2"/>
          <a:stretch/>
        </p:blipFill>
        <p:spPr>
          <a:xfrm>
            <a:off x="5924520" y="3772080"/>
            <a:ext cx="3156120" cy="957240"/>
          </a:xfrm>
          <a:prstGeom prst="rect">
            <a:avLst/>
          </a:prstGeom>
          <a:ln w="0">
            <a:noFill/>
          </a:ln>
        </p:spPr>
      </p:pic>
      <p:sp>
        <p:nvSpPr>
          <p:cNvPr id="749" name="Title 1"/>
          <p:cNvSpPr/>
          <p:nvPr/>
        </p:nvSpPr>
        <p:spPr>
          <a:xfrm>
            <a:off x="-165240" y="2860560"/>
            <a:ext cx="30164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388440" y="1635120"/>
            <a:ext cx="85870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lv-LV" sz="2800" spc="-1" strike="noStrike">
                <a:solidFill>
                  <a:srgbClr val="002060"/>
                </a:solidFill>
                <a:latin typeface="Verdana"/>
                <a:ea typeface="Verdana"/>
              </a:rPr>
              <a:t>Espresso sistēma - </a:t>
            </a:r>
            <a:r>
              <a:rPr b="0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hkdir.no</a:t>
            </a:r>
            <a:r>
              <a:rPr b="0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/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2" descr=""/>
          <p:cNvPicPr/>
          <p:nvPr/>
        </p:nvPicPr>
        <p:blipFill>
          <a:blip r:embed="rId1"/>
          <a:stretch/>
        </p:blipFill>
        <p:spPr>
          <a:xfrm>
            <a:off x="517680" y="2470320"/>
            <a:ext cx="7702560" cy="329544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eft Arrow 6"/>
          <p:cNvSpPr/>
          <p:nvPr/>
        </p:nvSpPr>
        <p:spPr>
          <a:xfrm rot="1692600">
            <a:off x="5667120" y="483984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393560"/>
            <a:ext cx="6870600" cy="74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>
                <a:solidFill>
                  <a:srgbClr val="1f4e79"/>
                </a:solidFill>
                <a:latin typeface="Calibri"/>
                <a:ea typeface="Verdana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1" descr=""/>
          <p:cNvPicPr/>
          <p:nvPr/>
        </p:nvPicPr>
        <p:blipFill>
          <a:blip r:embed="rId1"/>
          <a:srcRect l="0" t="24891" r="0" b="0"/>
          <a:stretch/>
        </p:blipFill>
        <p:spPr>
          <a:xfrm>
            <a:off x="4025880" y="4721400"/>
            <a:ext cx="4660920" cy="20412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"/>
          <p:cNvPicPr/>
          <p:nvPr/>
        </p:nvPicPr>
        <p:blipFill>
          <a:blip r:embed="rId2"/>
          <a:stretch/>
        </p:blipFill>
        <p:spPr>
          <a:xfrm>
            <a:off x="2660760" y="2238480"/>
            <a:ext cx="4916520" cy="2036520"/>
          </a:xfrm>
          <a:prstGeom prst="rect">
            <a:avLst/>
          </a:prstGeom>
          <a:ln w="0">
            <a:noFill/>
          </a:ln>
        </p:spPr>
      </p:pic>
      <p:cxnSp>
        <p:nvCxnSpPr>
          <p:cNvPr id="758" name="Straight Arrow Connector 4"/>
          <p:cNvCxnSpPr/>
          <p:nvPr/>
        </p:nvCxnSpPr>
        <p:spPr>
          <a:xfrm>
            <a:off x="5638320" y="3633840"/>
            <a:ext cx="1080" cy="12708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0" y="1882800"/>
            <a:ext cx="9144000" cy="3924360"/>
          </a:xfrm>
          <a:prstGeom prst="rect">
            <a:avLst/>
          </a:prstGeom>
          <a:ln w="0">
            <a:noFill/>
          </a:ln>
        </p:spPr>
      </p:pic>
      <p:sp>
        <p:nvSpPr>
          <p:cNvPr id="761" name="Left Arrow 6"/>
          <p:cNvSpPr/>
          <p:nvPr/>
        </p:nvSpPr>
        <p:spPr>
          <a:xfrm rot="8365800">
            <a:off x="1991880" y="6081840"/>
            <a:ext cx="3019320" cy="529920"/>
          </a:xfrm>
          <a:prstGeom prst="leftArrow">
            <a:avLst>
              <a:gd name="adj1" fmla="val 50000"/>
              <a:gd name="adj2" fmla="val 545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091960" y="415440"/>
            <a:ext cx="6095880" cy="776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zvēlamies apakšprogrammu, kurā iesniegsim sagatavošanas vizītes pieteikum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3" descr=""/>
          <p:cNvPicPr/>
          <p:nvPr/>
        </p:nvPicPr>
        <p:blipFill>
          <a:blip r:embed="rId2"/>
          <a:stretch/>
        </p:blipFill>
        <p:spPr>
          <a:xfrm>
            <a:off x="77760" y="1814400"/>
            <a:ext cx="914400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F7C6EDE-4D0B-47C0-9914-39EC8A01878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590920" cy="22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2495520" y="237960"/>
            <a:ext cx="608976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85F1482-D016-4D70-9369-757304BE62D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801880" cy="14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 – šajā gadījumā 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i («Preparatory visit») 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7" descr="A screenshot of a computer&#10;&#10;Description automatically generated"/>
          <p:cNvPicPr/>
          <p:nvPr/>
        </p:nvPicPr>
        <p:blipFill>
          <a:blip r:embed="rId1"/>
          <a:srcRect l="8189" t="15003" r="56997" b="25478"/>
          <a:stretch/>
        </p:blipFill>
        <p:spPr>
          <a:xfrm>
            <a:off x="3143160" y="228600"/>
            <a:ext cx="5391360" cy="5761080"/>
          </a:xfrm>
          <a:prstGeom prst="rect">
            <a:avLst/>
          </a:prstGeom>
          <a:ln w="0">
            <a:noFill/>
          </a:ln>
        </p:spPr>
      </p:pic>
      <p:cxnSp>
        <p:nvCxnSpPr>
          <p:cNvPr id="771" name="Straight Arrow Connector 9"/>
          <p:cNvCxnSpPr/>
          <p:nvPr/>
        </p:nvCxnSpPr>
        <p:spPr>
          <a:xfrm>
            <a:off x="2090520" y="3230640"/>
            <a:ext cx="1532520" cy="169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72" name="Title 1"/>
          <p:cNvSpPr/>
          <p:nvPr/>
        </p:nvSpPr>
        <p:spPr>
          <a:xfrm>
            <a:off x="54000" y="4772160"/>
            <a:ext cx="20368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Studiju vizīte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r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cits projektu veids (seminārs 28.08.25.)</a:t>
            </a: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Straight Arrow Connector 12"/>
          <p:cNvCxnSpPr/>
          <p:nvPr/>
        </p:nvCxnSpPr>
        <p:spPr>
          <a:xfrm>
            <a:off x="1662120" y="5106600"/>
            <a:ext cx="1961280" cy="83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24-09-17T09:25:17Z</cp:lastPrinted>
  <dcterms:modified xsi:type="dcterms:W3CDTF">2025-08-27T10:52:01Z</dcterms:modified>
  <cp:revision>189</cp:revision>
  <dc:subject/>
  <dc:title>PowerPoint Presentation</dc:title>
</cp:coreProperties>
</file>